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D41-CB83-4CBE-B2C8-C8AE7F2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D6A-EE44-48F1-9750-B29CEC2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D1D-87BF-49C1-974C-D026C512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606-68F4-4B7A-8B49-0603BF01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A311-BA97-4643-A38F-FEA0B7D5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F8D25-3930-4908-9A5C-1950F85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24FF6-3BA6-4A51-B9E5-463905E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9C8A-FBA3-4785-9794-DA28F34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1F67B-C9AE-451F-B8DD-8F2C04B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23BB8-F15C-4062-982A-35CC0187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4ABAB-BE33-43DF-B80F-5970A4D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321-BCBF-4EB1-9B0E-B9A7782C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5552E-4E3C-453B-8FE3-B7FB4AE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ED55B-C187-4C20-A36E-916C7187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A5B23-720A-4D59-BA85-5E217F3F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8ADDB-266C-482D-8131-18905CCD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88F3E-3BC2-46EE-BAB0-D3343767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99C0-0E67-4943-BC85-01F9B19C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28D8-0F71-4CD2-8591-4A877BEA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15BE-C342-4310-B117-1F79B2E8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564D-E087-4A22-88D6-75293BF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208D-B1D1-4696-A969-50D73787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81E-A306-43F9-8766-68C167C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951A-51AA-4816-AD2E-4D631E7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0C93-4B98-48FE-B31F-CE3A946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4CF0-2DF3-4352-8C2E-93C638F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FD76-8116-425B-9063-E115D90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6B97-E95A-4645-8F6C-248A2E77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1646-3D36-4726-B25D-09A8B7A8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0D0A-F9F9-42DE-B7D3-0542F88B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5E22B-CE89-469F-AB2E-7AE10BA9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F1355-5E90-40EE-8AF7-BE79B3F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A1976-5EAF-4E32-A866-E1AEDC0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E67-3AA0-451D-87FF-8438EE4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EB701-AD5D-4665-B09D-44112375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FF46D-7624-4C60-B782-EC38A5FC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57373-4E4E-4408-84FF-07ACBDE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4C96E-BB27-4414-A4C1-272077A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C9B48-A785-4B13-ACF6-2E79C382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D8BD8-52A2-4F89-AD5B-AAC6549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C6601-6467-4283-97FF-6BA202BF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19CB3-76F0-41F8-BEA2-40307B71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1AFD9-94F9-4947-ACE5-8A92DAE0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578-F9E8-4B4C-B1D8-027069E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00A-FA69-4161-BEA2-21B5F5C6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F58-1964-4382-A4B1-C29CEAB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06A-0FC1-433A-9D40-57402D0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760-FAD4-4B89-AAA7-238B9F1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641B-44E7-4F9D-886F-7BE39D1F22D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A03-3E4F-4C26-B8C0-319C67D60D92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0CB-AAF1-4709-9A44-7675E2C9760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5AD-1BC5-419E-91E1-D9F49B10010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3059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Maria Laura Valle       Adriana Egusquiz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Jimena Suarez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321760" cy="96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t3.gstatic.com/images?q=tbn:adRLIAy0_svRiM:http://bp3.blogger.com/_u9JLfSM5dUc/R9mrGYK7D1I/AAAAAAAACRM/MVMeOCv2ouo/s400/Sechin_huaraz_1.jpg"/>
          <p:cNvPicPr/>
          <p:nvPr/>
        </p:nvPicPr>
        <p:blipFill>
          <a:blip r:embed="rId2"/>
          <a:stretch/>
        </p:blipFill>
        <p:spPr>
          <a:xfrm>
            <a:off x="857160" y="2214720"/>
            <a:ext cx="6929640" cy="4286160"/>
          </a:xfrm>
          <a:prstGeom prst="rect">
            <a:avLst/>
          </a:prstGeom>
          <a:ln w="0">
            <a:noFill/>
          </a:ln>
        </p:spPr>
      </p:pic>
      <p:sp>
        <p:nvSpPr>
          <p:cNvPr id="173" name="6 Flecha a la derecha con muesca"/>
          <p:cNvSpPr/>
          <p:nvPr/>
        </p:nvSpPr>
        <p:spPr>
          <a:xfrm>
            <a:off x="1214280" y="3714840"/>
            <a:ext cx="3500640" cy="2500200"/>
          </a:xfrm>
          <a:custGeom>
            <a:avLst/>
            <a:gdLst>
              <a:gd name="textAreaLeft" fmla="*/ 624960 w 3500640"/>
              <a:gd name="textAreaRight" fmla="*/ 2875680 w 3500640"/>
              <a:gd name="textAreaTop" fmla="*/ 624960 h 2500200"/>
              <a:gd name="textAreaBottom" fmla="*/ 1875240 h 250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ntrando a sechin…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pásenla bien con sus guías que les explicaran cualquier du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1 CuadroTexto"/>
          <p:cNvSpPr/>
          <p:nvPr/>
        </p:nvSpPr>
        <p:spPr>
          <a:xfrm>
            <a:off x="1428840" y="428760"/>
            <a:ext cx="59292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Muchas gracias por su aten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Esperamos que le s halla sido de su agrado y también que hallan podido rescatar algunas pautas de esta preciosa cultur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Sechin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717600">
            <a:off x="5294160" y="2469960"/>
            <a:ext cx="2873520" cy="3825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 rot="20833800">
            <a:off x="960480" y="3666600"/>
            <a:ext cx="3009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UBICACIÓN GEOGRAFICA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echin esta ubicado en el departamento de Ancash,  provincia de Casma  en la   COSTA NORTE.  A cinco kilómetros  del mismo ,sobre la falda del cerro laguna a 90 metros sobre  el nivel del mar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http://farm4.static.flickr.com/3068/2288789316_282b92331d_o.jpg"/>
          <p:cNvPicPr/>
          <p:nvPr/>
        </p:nvPicPr>
        <p:blipFill>
          <a:blip r:embed="rId1"/>
          <a:stretch/>
        </p:blipFill>
        <p:spPr>
          <a:xfrm>
            <a:off x="268200" y="274680"/>
            <a:ext cx="64008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a cultura Sechin se encuentra en el formativo inicial o tempran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os antiguos constructores eligieron el lado Norte ,antes de que llegaran los de la cultura Chavín ,la pecularidad del lugar es que present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Constantia"/>
              </a:rPr>
              <a:t>Revetimiento Líticos Grabados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(escenas de guerreros sangrientos y sacrificios humanos),los cuales decoran el contorno del edific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1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928960" y="442908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5572080" y="285840"/>
            <a:ext cx="213696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3 Título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212320" cy="963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2500200"/>
            <a:ext cx="79246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efac9"/>
                </a:solidFill>
                <a:latin typeface="Constantia"/>
              </a:rPr>
              <a:t>Sus edificios de piedra tenían caras planas y  talladas .los sacerdotes eran dibujados con todo el cuerpo de perfil y unas partes al frente .llevaban como ropa una especie de tapa rabo de perfil y usaban  unos gorros .También pintaron cabezas de guerreros .este es uno de los vestigios mas antiguos del Perú construido aproximadamente 1500 AC y también es una delas ruinas  costeras mas importantes y conservadas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 rot="575400">
            <a:off x="5932080" y="528480"/>
            <a:ext cx="3071880" cy="193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29224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1 Marcador de texto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onsiste en que tenia plazas circulares hundidas que actualmente se llama la atención de Sechin bajo. Comenzaron con edificaciones mas grandes debido al crecimiento de la población. Esta tiene 2 patios y se dividen en 4 seguidas con esquinas curvadas y muro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Gran parte de la arquitectura de sechin es de piedra canteada traída desde los cerros ,lo cual evidencia una fuerza de trabajo ,esa labor se debió contar con diversos implementos y herramienta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El descubrimiento de arquitectura de sechin demostraría que el Perú fue uno de los  centros de alta civilización en el mundo antiguo, los orígenes de un pasado libre de influencias externas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4 Título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5286240" y="428760"/>
            <a:ext cx="31435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428480"/>
            <a:ext cx="40384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l modelo arquitectónico de las plazas hundidas marca los orígenes del antiguo Perú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odo lo elaboro el antiguo peruano de acuerdo a sus creenci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al vez en el futuro se puedan hallar templos mas antiguos en algún lugar del país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9760" y="1428480"/>
            <a:ext cx="40384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omo todos saben para construir ,hay que tener un grupo de gente que obedezca a un liderazgo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oda arquitectura es una obra comun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4 Título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214880" y="4000680"/>
            <a:ext cx="4064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5000760" cy="5786280"/>
          </a:xfrm>
          <a:prstGeom prst="rect">
            <a:avLst/>
          </a:prstGeom>
          <a:ln w="0">
            <a:noFill/>
          </a:ln>
        </p:spPr>
      </p:pic>
      <p:sp>
        <p:nvSpPr>
          <p:cNvPr id="195" name="3 Pergamino vertical"/>
          <p:cNvSpPr/>
          <p:nvPr/>
        </p:nvSpPr>
        <p:spPr>
          <a:xfrm>
            <a:off x="6286680" y="428760"/>
            <a:ext cx="2428560" cy="307152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a es una imagen  de cómo era la arquitectura en sech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http://es.wikipedia.org/skins-1.5/common/images/magnify-clip.png"/>
          <p:cNvPicPr/>
          <p:nvPr/>
        </p:nvPicPr>
        <p:blipFill>
          <a:blip r:embed="rId1"/>
          <a:stretch/>
        </p:blipFill>
        <p:spPr>
          <a:xfrm>
            <a:off x="155520" y="7542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5370480" cy="4500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RELIGION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Momia, sacrificio humano 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Fue encontrado en el MUSEO REGIONAL DE CASMA ¨MAX UHULE¨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C:\Documents and Settings\Administrador\Mis documentos\Mis imágenes\malala y adri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44:29Z</dcterms:created>
  <dc:creator>Juan</dc:creator>
  <dc:description/>
  <dc:language>en-US</dc:language>
  <cp:lastModifiedBy>Juan</cp:lastModifiedBy>
  <dcterms:modified xsi:type="dcterms:W3CDTF">2009-11-09T00:40:23Z</dcterms:modified>
  <cp:revision>31</cp:revision>
  <dc:subject/>
  <dc:title>Sechín</dc:title>
</cp:coreProperties>
</file>